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wmf" ContentType="image/x-wmf"/>
  <Override PartName="/ppt/media/image4.jpeg" ContentType="image/jpeg"/>
  <Override PartName="/ppt/media/image6.wmf" ContentType="image/x-wmf"/>
  <Override PartName="/ppt/media/image11.wmf" ContentType="image/x-wmf"/>
  <Override PartName="/ppt/media/image7.wmf" ContentType="image/x-wmf"/>
  <Override PartName="/ppt/media/image8.png" ContentType="image/png"/>
  <Override PartName="/ppt/media/image9.png" ContentType="image/png"/>
  <Override PartName="/ppt/media/image10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F3FA6-9F10-4098-8810-DFC91483E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1B18E-2EC5-4C1D-A5F8-1BA033BEA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81728-CD10-480B-9D20-BE1AF3DB3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F232E-AC29-4E29-AF08-2B8219820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F7996-757A-4B77-9566-9F8A7C906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8B480-60FC-47C3-83B9-7D945B756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052F0-EA4C-4079-BE00-8533B20B7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EA353-6A72-4007-BBF4-B842DEB56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2C967-7786-43E7-B17D-05FF99A1B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31870-4A3E-40EA-9F69-54DB58310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CC4B6-685D-4D20-A726-898281406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1BD83-7606-4420-BCA8-B595239B5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7A797-7FA9-4FEC-AB9D-4DDA5262A0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Rectangle 3" descr=""/>
          <p:cNvPicPr/>
          <p:nvPr/>
        </p:nvPicPr>
        <p:blipFill>
          <a:blip r:embed="rId2"/>
          <a:stretch/>
        </p:blipFill>
        <p:spPr>
          <a:xfrm>
            <a:off x="944640" y="2163600"/>
            <a:ext cx="7261200" cy="1646280"/>
          </a:xfrm>
          <a:prstGeom prst="rect">
            <a:avLst/>
          </a:prstGeom>
          <a:ln w="0">
            <a:noFill/>
          </a:ln>
        </p:spPr>
      </p:pic>
      <p:sp>
        <p:nvSpPr>
          <p:cNvPr id="42" name="TextBox 4"/>
          <p:cNvSpPr/>
          <p:nvPr/>
        </p:nvSpPr>
        <p:spPr>
          <a:xfrm>
            <a:off x="2743200" y="3886200"/>
            <a:ext cx="35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e open-accept AIDS …it will stop sooner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5"/>
          <p:cNvSpPr/>
          <p:nvPr/>
        </p:nvSpPr>
        <p:spPr>
          <a:xfrm rot="20407200">
            <a:off x="382680" y="729000"/>
            <a:ext cx="3124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Use protec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doms are one of the most effective, protective ways to g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&quot;No&quot; Symbol 7"/>
          <p:cNvSpPr/>
          <p:nvPr/>
        </p:nvSpPr>
        <p:spPr>
          <a:xfrm>
            <a:off x="3048120" y="990720"/>
            <a:ext cx="1752480" cy="1676160"/>
          </a:xfrm>
          <a:custGeom>
            <a:avLst/>
            <a:gdLst>
              <a:gd name="textAreaLeft" fmla="*/ 256680 w 1752480"/>
              <a:gd name="textAreaRight" fmla="*/ 1495800 w 1752480"/>
              <a:gd name="textAreaTop" fmla="*/ 245520 h 1676160"/>
              <a:gd name="textAreaBottom" fmla="*/ 1430640 h 1676160"/>
            </a:gdLst>
            <a:ahLst/>
            <a:rect l="textAreaLeft" t="textAreaTop" r="textAreaRight" b="textAreaBottom"/>
            <a:pathLst>
              <a:path w="1752600" h="1676400">
                <a:moveTo>
                  <a:pt x="0" y="838200"/>
                </a:moveTo>
                <a:lnTo>
                  <a:pt x="0" y="838200"/>
                </a:lnTo>
                <a:arcTo wR="876300" hR="838200" stAng="-10799996" swAng="5400000"/>
                <a:lnTo>
                  <a:pt x="876301" y="1"/>
                </a:lnTo>
                <a:arcTo wR="876300" hR="838200" stAng="-5399996" swAng="5400004"/>
                <a:lnTo>
                  <a:pt x="1752600" y="838203"/>
                </a:lnTo>
                <a:arcTo wR="876300" hR="838200" stAng="0" swAng="5400000"/>
                <a:lnTo>
                  <a:pt x="876300" y="1676403"/>
                </a:lnTo>
                <a:arcTo wR="876300" hR="838200" stAng="5400000" swAng="5400004"/>
                <a:close/>
                <a:moveTo>
                  <a:pt x="1366566" y="1094268"/>
                </a:moveTo>
                <a:lnTo>
                  <a:pt x="1366566" y="1094268"/>
                </a:lnTo>
                <a:arcTo wR="561975" hR="523875" stAng="1654695" swAng="-8862160"/>
                <a:close/>
                <a:moveTo>
                  <a:pt x="386034" y="582132"/>
                </a:moveTo>
                <a:lnTo>
                  <a:pt x="386034" y="582132"/>
                </a:lnTo>
                <a:arcTo wR="561975" hR="523875" stAng="-9145310" swAng="-8862160"/>
                <a:close/>
              </a:path>
            </a:pathLst>
          </a:cu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Box 6"/>
          <p:cNvSpPr/>
          <p:nvPr/>
        </p:nvSpPr>
        <p:spPr>
          <a:xfrm>
            <a:off x="3352680" y="1523880"/>
            <a:ext cx="1219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ex without protectio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Box 8"/>
          <p:cNvSpPr/>
          <p:nvPr/>
        </p:nvSpPr>
        <p:spPr>
          <a:xfrm rot="1481400">
            <a:off x="5945400" y="4694760"/>
            <a:ext cx="2819520" cy="14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Abstain from sex before Marriage-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oth partners will be happy and AIDS fre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(both did not have AIDS to begin with)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3" descr="C:\Users\hbl2295\AppData\Local\Microsoft\Windows\Temporary Internet Files\Content.IE5\HBWM3PXT\MC900154840[1].wmf"/>
          <p:cNvPicPr/>
          <p:nvPr/>
        </p:nvPicPr>
        <p:blipFill>
          <a:blip r:embed="rId3"/>
          <a:stretch/>
        </p:blipFill>
        <p:spPr>
          <a:xfrm>
            <a:off x="4419720" y="4572000"/>
            <a:ext cx="1668240" cy="1805040"/>
          </a:xfrm>
          <a:prstGeom prst="rect">
            <a:avLst/>
          </a:prstGeom>
          <a:ln w="0">
            <a:noFill/>
          </a:ln>
        </p:spPr>
      </p:pic>
      <p:sp>
        <p:nvSpPr>
          <p:cNvPr id="48" name="TextBox 13"/>
          <p:cNvSpPr/>
          <p:nvPr/>
        </p:nvSpPr>
        <p:spPr>
          <a:xfrm>
            <a:off x="533520" y="4876920"/>
            <a:ext cx="3047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E PROTECTION-best solution because almost 99% foolproof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Rectangle 3" descr=""/>
          <p:cNvPicPr/>
          <p:nvPr/>
        </p:nvPicPr>
        <p:blipFill>
          <a:blip r:embed="rId2"/>
          <a:stretch/>
        </p:blipFill>
        <p:spPr>
          <a:xfrm>
            <a:off x="-549360" y="-749160"/>
            <a:ext cx="6632640" cy="494316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5562720" y="609480"/>
            <a:ext cx="3124080" cy="173988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aused by horrible bacteria in the wat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ifficult to solve because there is no improvement in the water syste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8-Point Star 5"/>
          <p:cNvSpPr/>
          <p:nvPr/>
        </p:nvSpPr>
        <p:spPr>
          <a:xfrm>
            <a:off x="7010280" y="2743200"/>
            <a:ext cx="1981440" cy="1905120"/>
          </a:xfrm>
          <a:custGeom>
            <a:avLst/>
            <a:gdLst>
              <a:gd name="textAreaLeft" fmla="*/ 465120 w 1981440"/>
              <a:gd name="textAreaRight" fmla="*/ 1516320 w 1981440"/>
              <a:gd name="textAreaTop" fmla="*/ 447120 h 1905120"/>
              <a:gd name="textAreaBottom" fmla="*/ 1458000 h 19051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290" y="13834"/>
                </a:lnTo>
                <a:lnTo>
                  <a:pt x="3163" y="18437"/>
                </a:lnTo>
                <a:lnTo>
                  <a:pt x="7635" y="18256"/>
                </a:lnTo>
                <a:lnTo>
                  <a:pt x="10800" y="21600"/>
                </a:lnTo>
                <a:lnTo>
                  <a:pt x="13834" y="18310"/>
                </a:lnTo>
                <a:lnTo>
                  <a:pt x="18437" y="18437"/>
                </a:lnTo>
                <a:lnTo>
                  <a:pt x="18256" y="13965"/>
                </a:lnTo>
                <a:lnTo>
                  <a:pt x="21600" y="10800"/>
                </a:lnTo>
                <a:lnTo>
                  <a:pt x="18310" y="7766"/>
                </a:lnTo>
                <a:lnTo>
                  <a:pt x="18437" y="3163"/>
                </a:lnTo>
                <a:lnTo>
                  <a:pt x="13965" y="3344"/>
                </a:lnTo>
                <a:lnTo>
                  <a:pt x="10800" y="0"/>
                </a:lnTo>
                <a:lnTo>
                  <a:pt x="7766" y="3290"/>
                </a:lnTo>
                <a:lnTo>
                  <a:pt x="3163" y="3163"/>
                </a:lnTo>
                <a:lnTo>
                  <a:pt x="3344" y="7635"/>
                </a:lnTo>
                <a:lnTo>
                  <a:pt x="0" y="108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6"/>
          <p:cNvSpPr/>
          <p:nvPr/>
        </p:nvSpPr>
        <p:spPr>
          <a:xfrm>
            <a:off x="7696080" y="3124080"/>
            <a:ext cx="68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7"/>
          <p:cNvSpPr/>
          <p:nvPr/>
        </p:nvSpPr>
        <p:spPr>
          <a:xfrm rot="1494600">
            <a:off x="5768640" y="4315320"/>
            <a:ext cx="2743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Restore water infrastructure to the entire country-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said to cost less than supplying the people with medic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8"/>
          <p:cNvSpPr/>
          <p:nvPr/>
        </p:nvSpPr>
        <p:spPr>
          <a:xfrm>
            <a:off x="380880" y="5334120"/>
            <a:ext cx="3810240" cy="11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rovide medication for the water-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dication to apply to the water to kill the bacter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C:\Users\hbl2295\AppData\Local\Microsoft\Windows\Temporary Internet Files\Content.IE5\M4JQAHOE\MC900057892[1].wmf"/>
          <p:cNvPicPr/>
          <p:nvPr/>
        </p:nvPicPr>
        <p:blipFill>
          <a:blip r:embed="rId3"/>
          <a:stretch/>
        </p:blipFill>
        <p:spPr>
          <a:xfrm>
            <a:off x="1447920" y="3276720"/>
            <a:ext cx="977760" cy="18000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C:\Users\hbl2295\AppData\Local\Microsoft\Windows\Temporary Internet Files\Content.IE5\HBWM3PXT\MC900312020[1].wmf"/>
          <p:cNvPicPr/>
          <p:nvPr/>
        </p:nvPicPr>
        <p:blipFill>
          <a:blip r:embed="rId4"/>
          <a:stretch/>
        </p:blipFill>
        <p:spPr>
          <a:xfrm>
            <a:off x="4267080" y="2895480"/>
            <a:ext cx="1828800" cy="183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C:\Users\hbl2295\AppData\Local\Microsoft\Windows\Temporary Internet Files\Content.IE5\XPJALY1D\MC900438036[1].png"/>
          <p:cNvPicPr/>
          <p:nvPr/>
        </p:nvPicPr>
        <p:blipFill>
          <a:blip r:embed="rId1"/>
          <a:stretch/>
        </p:blipFill>
        <p:spPr>
          <a:xfrm>
            <a:off x="146160" y="-1152360"/>
            <a:ext cx="9156600" cy="9162720"/>
          </a:xfrm>
          <a:prstGeom prst="rect">
            <a:avLst/>
          </a:prstGeom>
          <a:ln w="0">
            <a:noFill/>
          </a:ln>
        </p:spPr>
      </p:pic>
      <p:pic>
        <p:nvPicPr>
          <p:cNvPr id="58" name="Rectangle 3" descr=""/>
          <p:cNvPicPr/>
          <p:nvPr/>
        </p:nvPicPr>
        <p:blipFill>
          <a:blip r:embed="rId2"/>
          <a:stretch/>
        </p:blipFill>
        <p:spPr>
          <a:xfrm>
            <a:off x="-384120" y="-596880"/>
            <a:ext cx="8480520" cy="6832440"/>
          </a:xfrm>
          <a:prstGeom prst="rect">
            <a:avLst/>
          </a:prstGeom>
          <a:ln w="0">
            <a:noFill/>
          </a:ln>
        </p:spPr>
      </p:pic>
      <p:sp>
        <p:nvSpPr>
          <p:cNvPr id="59" name="TextBox 5"/>
          <p:cNvSpPr/>
          <p:nvPr/>
        </p:nvSpPr>
        <p:spPr>
          <a:xfrm rot="21177000">
            <a:off x="380160" y="609120"/>
            <a:ext cx="3124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osquitoes are the #1 cause of Malari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Difficult to solve because of the landscape of Afr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Box 6"/>
          <p:cNvSpPr/>
          <p:nvPr/>
        </p:nvSpPr>
        <p:spPr>
          <a:xfrm>
            <a:off x="5867280" y="3809880"/>
            <a:ext cx="3124440" cy="164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rovide people with nets-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s provide the best protection and has been proven to decrease malari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4" descr="C:\Users\hbl2295\AppData\Local\Microsoft\Windows\Temporary Internet Files\Content.IE5\HBWM3PXT\MC900090359[1].wmf"/>
          <p:cNvPicPr/>
          <p:nvPr/>
        </p:nvPicPr>
        <p:blipFill>
          <a:blip r:embed="rId3"/>
          <a:stretch/>
        </p:blipFill>
        <p:spPr>
          <a:xfrm>
            <a:off x="6095880" y="1523880"/>
            <a:ext cx="2867040" cy="2248200"/>
          </a:xfrm>
          <a:prstGeom prst="rect">
            <a:avLst/>
          </a:prstGeom>
          <a:ln w="0">
            <a:noFill/>
          </a:ln>
        </p:spPr>
      </p:pic>
      <p:sp>
        <p:nvSpPr>
          <p:cNvPr id="62" name="TextBox 10"/>
          <p:cNvSpPr/>
          <p:nvPr/>
        </p:nvSpPr>
        <p:spPr>
          <a:xfrm>
            <a:off x="1905120" y="5029200"/>
            <a:ext cx="3124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ake weekly medicine to provide the body with a defense-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This will provide the body with a immediate defense to fight of malaria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5" descr="C:\Users\hbl2295\AppData\Local\Microsoft\Windows\Temporary Internet Files\Content.IE5\46DGG19E\MC900229677[1].wmf"/>
          <p:cNvPicPr/>
          <p:nvPr/>
        </p:nvPicPr>
        <p:blipFill>
          <a:blip r:embed="rId4"/>
          <a:stretch/>
        </p:blipFill>
        <p:spPr>
          <a:xfrm>
            <a:off x="3962520" y="3505320"/>
            <a:ext cx="1447560" cy="151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6T23:19:27Z</dcterms:created>
  <dc:creator>Robello Samuel</dc:creator>
  <dc:description/>
  <dc:language>en-US</dc:language>
  <cp:lastModifiedBy>Robello Samuel</cp:lastModifiedBy>
  <dcterms:modified xsi:type="dcterms:W3CDTF">2010-05-07T00:05:13Z</dcterms:modified>
  <cp:revision>5</cp:revision>
  <dc:subject/>
  <dc:title>Slide 1</dc:title>
</cp:coreProperties>
</file>