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C7C-5AAB-4B8A-8389-24E74BEA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C5E-3DEA-4110-ABF6-4EC0040E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99F-509A-4273-8825-6F36659A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0FB-90DF-44B4-B33F-E06435E9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99F-D5F5-4977-B881-0AD31653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C3B-208C-43CE-AC82-1F23EE43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DFB-F199-47B5-B12E-FF49E739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CD2-0469-408D-BB94-C270DACE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A6A-E096-42A4-ABAB-1C54598F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9A0-0C04-428D-987F-5EBEE7EA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2D8-E5E8-4934-97CE-48750437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D7F-3999-42F6-932A-62C2AAA2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DB71-B01D-4CD4-8D37-853520E8B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944640" y="2163600"/>
            <a:ext cx="7261200" cy="1646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743200" y="38862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open-accept AIDS …it will stop soon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 rot="20407200">
            <a:off x="382680" y="72900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oms are one of the most effective, protective ways to 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&quot;No&quot; Symbol 7"/>
          <p:cNvSpPr/>
          <p:nvPr/>
        </p:nvSpPr>
        <p:spPr>
          <a:xfrm>
            <a:off x="3048120" y="990720"/>
            <a:ext cx="1752480" cy="1676160"/>
          </a:xfrm>
          <a:custGeom>
            <a:avLst/>
            <a:gdLst>
              <a:gd name="textAreaLeft" fmla="*/ 256680 w 1752480"/>
              <a:gd name="textAreaRight" fmla="*/ 1495800 w 1752480"/>
              <a:gd name="textAreaTop" fmla="*/ 245520 h 1676160"/>
              <a:gd name="textAreaBottom" fmla="*/ 1430640 h 1676160"/>
            </a:gdLst>
            <a:ahLst/>
            <a:rect l="textAreaLeft" t="textAreaTop" r="textAreaRight" b="textAreaBottom"/>
            <a:pathLst>
              <a:path w="1752600" h="1676400">
                <a:moveTo>
                  <a:pt x="0" y="838200"/>
                </a:moveTo>
                <a:lnTo>
                  <a:pt x="0" y="838200"/>
                </a:lnTo>
                <a:arcTo wR="876300" hR="838200" stAng="-10799996" swAng="5400000"/>
                <a:lnTo>
                  <a:pt x="876301" y="1"/>
                </a:lnTo>
                <a:arcTo wR="876300" hR="838200" stAng="-5399996" swAng="5400004"/>
                <a:lnTo>
                  <a:pt x="1752600" y="838203"/>
                </a:lnTo>
                <a:arcTo wR="876300" hR="838200" stAng="0" swAng="5400000"/>
                <a:lnTo>
                  <a:pt x="876300" y="1676403"/>
                </a:lnTo>
                <a:arcTo wR="876300" hR="838200" stAng="5400000" swAng="5400004"/>
                <a:close/>
                <a:moveTo>
                  <a:pt x="1366566" y="1094268"/>
                </a:moveTo>
                <a:lnTo>
                  <a:pt x="1366566" y="1094268"/>
                </a:lnTo>
                <a:arcTo wR="561975" hR="523875" stAng="1654695" swAng="-8862160"/>
                <a:close/>
                <a:moveTo>
                  <a:pt x="386034" y="582132"/>
                </a:moveTo>
                <a:lnTo>
                  <a:pt x="386034" y="582132"/>
                </a:lnTo>
                <a:arcTo wR="561975" hR="523875" stAng="-9145310" swAng="-886216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352680" y="15238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x without prot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 rot="1481400">
            <a:off x="5945400" y="4694760"/>
            <a:ext cx="281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bstain from sex before Marriage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partners will be happy and AIDS fre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both did not have AIDS to begin with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hbl2295\AppData\Local\Microsoft\Windows\Temporary Internet Files\Content.IE5\HBWM3PXT\MC900154840[1].wmf"/>
          <p:cNvPicPr/>
          <p:nvPr/>
        </p:nvPicPr>
        <p:blipFill>
          <a:blip r:embed="rId3"/>
          <a:stretch/>
        </p:blipFill>
        <p:spPr>
          <a:xfrm>
            <a:off x="4419720" y="4572000"/>
            <a:ext cx="1668240" cy="1805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3"/>
          <p:cNvSpPr/>
          <p:nvPr/>
        </p:nvSpPr>
        <p:spPr>
          <a:xfrm>
            <a:off x="533520" y="48769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PROTECTION-best solution because almost 99% foolpro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-549360" y="-749160"/>
            <a:ext cx="6632640" cy="4943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562720" y="609480"/>
            <a:ext cx="31240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used by horrible bacteria in the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solve because there is no improvement in the water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8-Point Star 5"/>
          <p:cNvSpPr/>
          <p:nvPr/>
        </p:nvSpPr>
        <p:spPr>
          <a:xfrm>
            <a:off x="7010280" y="2743200"/>
            <a:ext cx="1981440" cy="1905120"/>
          </a:xfrm>
          <a:custGeom>
            <a:avLst/>
            <a:gdLst>
              <a:gd name="textAreaLeft" fmla="*/ 465120 w 1981440"/>
              <a:gd name="textAreaRight" fmla="*/ 1516320 w 1981440"/>
              <a:gd name="textAreaTop" fmla="*/ 447120 h 1905120"/>
              <a:gd name="textAreaBottom" fmla="*/ 145800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7696080" y="31240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494600">
            <a:off x="5768640" y="43153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ore water infrastructure to the entire country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aid to cost less than supplying the people with med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80880" y="5334120"/>
            <a:ext cx="3810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medication for the water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tion to apply to the water to kill the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hbl2295\AppData\Local\Microsoft\Windows\Temporary Internet Files\Content.IE5\M4JQAHOE\MC900057892[1].wmf"/>
          <p:cNvPicPr/>
          <p:nvPr/>
        </p:nvPicPr>
        <p:blipFill>
          <a:blip r:embed="rId3"/>
          <a:stretch/>
        </p:blipFill>
        <p:spPr>
          <a:xfrm>
            <a:off x="1447920" y="3276720"/>
            <a:ext cx="97776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hbl2295\AppData\Local\Microsoft\Windows\Temporary Internet Files\Content.IE5\HBWM3PXT\MC900312020[1].wmf"/>
          <p:cNvPicPr/>
          <p:nvPr/>
        </p:nvPicPr>
        <p:blipFill>
          <a:blip r:embed="rId4"/>
          <a:stretch/>
        </p:blipFill>
        <p:spPr>
          <a:xfrm>
            <a:off x="4267080" y="2895480"/>
            <a:ext cx="18288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hbl2295\AppData\Local\Microsoft\Windows\Temporary Internet Files\Content.IE5\XPJALY1D\MC900438036[1].png"/>
          <p:cNvPicPr/>
          <p:nvPr/>
        </p:nvPicPr>
        <p:blipFill>
          <a:blip r:embed="rId1"/>
          <a:stretch/>
        </p:blipFill>
        <p:spPr>
          <a:xfrm>
            <a:off x="146160" y="-1152360"/>
            <a:ext cx="9156600" cy="916272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" descr=""/>
          <p:cNvPicPr/>
          <p:nvPr/>
        </p:nvPicPr>
        <p:blipFill>
          <a:blip r:embed="rId2"/>
          <a:stretch/>
        </p:blipFill>
        <p:spPr>
          <a:xfrm>
            <a:off x="-384120" y="-596880"/>
            <a:ext cx="8480520" cy="6832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 rot="21177000">
            <a:off x="380160" y="609120"/>
            <a:ext cx="312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squitoes are the #1 cause of Mal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icult to solve because of the landscape of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867280" y="3809880"/>
            <a:ext cx="3124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vide people with nets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rovide the best protection and has been proven to decrease mal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Users\hbl2295\AppData\Local\Microsoft\Windows\Temporary Internet Files\Content.IE5\HBWM3PXT\MC900090359[1].wmf"/>
          <p:cNvPicPr/>
          <p:nvPr/>
        </p:nvPicPr>
        <p:blipFill>
          <a:blip r:embed="rId3"/>
          <a:stretch/>
        </p:blipFill>
        <p:spPr>
          <a:xfrm>
            <a:off x="6095880" y="1523880"/>
            <a:ext cx="286704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1905120" y="50292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ke weekly medicine to provide the body with a defense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s will provide the body with a immediate defense to fight of mala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hbl2295\AppData\Local\Microsoft\Windows\Temporary Internet Files\Content.IE5\46DGG19E\MC900229677[1].wmf"/>
          <p:cNvPicPr/>
          <p:nvPr/>
        </p:nvPicPr>
        <p:blipFill>
          <a:blip r:embed="rId4"/>
          <a:stretch/>
        </p:blipFill>
        <p:spPr>
          <a:xfrm>
            <a:off x="3962520" y="3505320"/>
            <a:ext cx="14475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23:19:27Z</dcterms:created>
  <dc:creator>Robello Samuel</dc:creator>
  <dc:description/>
  <dc:language>en-US</dc:language>
  <cp:lastModifiedBy>Robello Samuel</cp:lastModifiedBy>
  <dcterms:modified xsi:type="dcterms:W3CDTF">2010-05-07T00:05:13Z</dcterms:modified>
  <cp:revision>5</cp:revision>
  <dc:subject/>
  <dc:title>Slide 1</dc:title>
</cp:coreProperties>
</file>