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9C776-1670-4B2D-AF36-083631F95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8967-4E43-4B25-99FB-773E7BDF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C40D-A48C-4EBA-B997-416094EC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A73C-2129-48D8-AE43-D07B47A34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CA2F5-7254-4569-8835-31DC683A9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10144-63A8-420B-9FC0-2B7D213F2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5513D-DCA1-48DF-B404-DC86EDD8F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E3914-78BE-4B76-AEF0-45063AD26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C6F0-4289-4D6F-86E5-D28F8F82D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FBA68-9300-4614-B35C-65EED77D7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4948-E4DA-4A48-8996-C45A794E0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AB837-C52E-4EBC-B7A5-903C5AF6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E5148-1967-40B1-9F2E-FA2E54C2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17DF-5D0B-4DA0-98C9-95EA866C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68745-AE2A-422A-A76D-60C39FFF8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FFDB8-D2BF-416A-B77B-BF8402EDF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0D297-99FC-4B96-A71D-5FDA68597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393F5-3FAE-4F42-A667-60A55274C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8F366-35C3-4689-ACFA-5A65FCCE6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E6F58-47C3-44AB-BB8F-D80AB2763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8EFCA-9937-4892-8E5C-4FF5E81F3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AF856-C007-4387-8286-A508E16AB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82B5-62D4-4AF3-AE43-81C481C7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90FEF-E2EA-4F42-9E92-B9D9208F3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0190C-25CB-4C29-9EA5-505CD3FF8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568E3-E36A-4760-A839-7A767D148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A4B46-D281-4472-9FAE-16C117C1F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CE475-2489-4674-AA7A-3DF27D0B1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D951F-9F7A-43A6-8CD1-8D106F25C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6A38C-DE39-4225-BDFE-4349FCD45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C61CD-5688-4ECB-8018-955522A17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6DB58-509A-4536-AB81-FF6E4B154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F16D0-4D36-487F-9C4D-CACDBF5AD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9589-F2F1-4AD2-AC27-FBB7FEE19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5590B-304B-44CE-A304-415817566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B0478-2DA4-45AF-A084-7405EBEA0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09A76-B582-43A0-A20D-07639A7E5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C7F6E-E924-479C-BD3B-C4EA1FBF9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26CFF-0C81-49CB-9FCE-13E2EF8E9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2EAA1-95D8-4B9A-B7E0-F6DBF4B9F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8C055-4500-4CBC-974C-7A5486834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5CA101-F126-4269-9040-3223A77FA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732FA4-887D-4E9A-8027-242FDC5851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EC6BC3-8AF6-4744-AF17-FFE3E8ECA2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D1B4-D91C-4415-98E2-7964C8E9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B49C0-748A-4226-904E-A56751DC8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96F1A-8509-4DD3-B464-2F4B87B55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EB49B8-D848-4882-ADD2-2FF85BE0A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8A286-1ADB-479D-A9A2-F8CDEEAE2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5F479-9E92-4E7B-A745-C4E0B2828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9EB7E-3D8D-4928-9222-9D3B43F08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E7D4D-8817-4DB9-8485-13B6399A5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6393B-9A9F-4C94-A4D8-94CC61716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2D363-80F0-4BE4-95DA-0CF1758C7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37BB20-A93C-44FE-828C-C7C444F836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5FF2-675E-4E85-9AE6-5600A878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E27B15-5536-48C9-AA35-C0BA5AA5B9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AF36-DA6E-4530-8B12-4A030C2C9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E7E8-C7B2-42B1-BA35-0D21BE98F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24ED-E5A1-499A-90A7-E014A5301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0D20-1E21-4F18-A071-8E7CCC4D9FD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648A-FD88-4B18-B075-E05D83D1ED5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1AEC-27A5-4ED5-9023-85A6F35477C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D1D9-E99E-4512-8FA5-B82BEDAD7BC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4E2E-0737-453C-A7F7-3DCD4B7BC5F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517760"/>
            <a:ext cx="8528040" cy="2152440"/>
          </a:xfrm>
          <a:prstGeom prst="rect">
            <a:avLst/>
          </a:prstGeom>
          <a:ln w="0">
            <a:noFill/>
          </a:ln>
        </p:spPr>
      </p:pic>
      <p:sp>
        <p:nvSpPr>
          <p:cNvPr id="246" name="PlaceHolder 1"/>
          <p:cNvSpPr>
            <a:spLocks noGrp="1"/>
          </p:cNvSpPr>
          <p:nvPr>
            <p:ph type="subTitle"/>
          </p:nvPr>
        </p:nvSpPr>
        <p:spPr>
          <a:xfrm>
            <a:off x="533160" y="3429000"/>
            <a:ext cx="7854840" cy="1752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ron Samuel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e Gunjevic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azzelle Velazquez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re we for or against rainforest destruction?</a:t>
            </a:r>
            <a:endParaRPr b="0" lang="en-US" sz="3600" spc="-1" strike="noStrike">
              <a:solidFill>
                <a:srgbClr val="04617b"/>
              </a:solidFill>
              <a:latin typeface="Calibri"/>
            </a:endParaRPr>
          </a:p>
        </p:txBody>
      </p:sp>
      <p:sp>
        <p:nvSpPr>
          <p:cNvPr id="248" name=""/>
          <p:cNvSpPr txBox="1"/>
          <p:nvPr/>
        </p:nvSpPr>
        <p:spPr>
          <a:xfrm>
            <a:off x="380880" y="236196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 Government Officials looking out for the good of our own country, we purposely do not want to destroy the forest, but rather want to have a balance between forest and infrastructure. Therefore, we do support deforestation to a certain degree because of the benefits of our economy but also look at the global change related to the rainfor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1</a:t>
            </a:r>
            <a:br>
              <a:rPr sz="3600"/>
            </a:br>
            <a:r>
              <a:rPr b="0" i="1" lang="en-US" sz="2900" spc="-1" strike="noStrike">
                <a:solidFill>
                  <a:srgbClr val="000000"/>
                </a:solidFill>
                <a:latin typeface="Calibri"/>
              </a:rPr>
              <a:t>Brazil is expanding</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0" name="PlaceHolder 2"/>
          <p:cNvSpPr>
            <a:spLocks noGrp="1"/>
          </p:cNvSpPr>
          <p:nvPr>
            <p:ph/>
          </p:nvPr>
        </p:nvSpPr>
        <p:spPr>
          <a:xfrm>
            <a:off x="228600" y="2057400"/>
            <a:ext cx="4038480" cy="4525920"/>
          </a:xfrm>
          <a:prstGeom prst="rect">
            <a:avLst/>
          </a:prstGeom>
          <a:noFill/>
          <a:ln w="0">
            <a:noFill/>
          </a:ln>
        </p:spPr>
        <p:txBody>
          <a:bodyPr lIns="90000" rIns="90000" tIns="46800" bIns="46800" anchor="t">
            <a:normAutofit fontScale="98000"/>
          </a:bodyPr>
          <a:p>
            <a:pPr marL="26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e population in Brazil in the past two years has risen by about 2.5 million people. It is necessary to use the resources in the rainforest to improve the quality of life and to pay off our massive foreign debt.</a:t>
            </a:r>
            <a:endParaRPr b="0" lang="en-US" sz="2800" spc="-1" strike="noStrike">
              <a:solidFill>
                <a:srgbClr val="000000"/>
              </a:solidFill>
              <a:latin typeface="Constantia"/>
            </a:endParaRPr>
          </a:p>
        </p:txBody>
      </p:sp>
      <p:pic>
        <p:nvPicPr>
          <p:cNvPr id="251" name="Picture 8" descr="amazon_deforestation"/>
          <p:cNvPicPr/>
          <p:nvPr/>
        </p:nvPicPr>
        <p:blipFill>
          <a:blip r:embed="rId1"/>
          <a:stretch/>
        </p:blipFill>
        <p:spPr>
          <a:xfrm>
            <a:off x="4495680" y="2286000"/>
            <a:ext cx="40957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2</a:t>
            </a:r>
            <a:br>
              <a:rPr sz="3600"/>
            </a:br>
            <a:r>
              <a:rPr b="0" i="1" lang="en-US" sz="2900" spc="-1" strike="noStrike">
                <a:solidFill>
                  <a:srgbClr val="000000"/>
                </a:solidFill>
                <a:latin typeface="Calibri"/>
              </a:rPr>
              <a:t>Brazil needs space for infrastructure</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3" name=""/>
          <p:cNvSpPr txBox="1"/>
          <p:nvPr/>
        </p:nvSpPr>
        <p:spPr>
          <a:xfrm>
            <a:off x="228600" y="1752480"/>
            <a:ext cx="8229600" cy="452592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In order to improve and expand our infrastructure we must build roads, dams, and airstrips. For this Brazil needs room and the only way to get is by clearing parts of the rainforest. Also this provides connections to the countries that are north of Brazil making trade and political agreements easier.</a:t>
            </a:r>
            <a:endParaRPr b="0" lang="en-US" sz="2800" spc="-1" strike="noStrike">
              <a:solidFill>
                <a:srgbClr val="000000"/>
              </a:solidFill>
              <a:latin typeface="Constantia"/>
            </a:endParaRPr>
          </a:p>
        </p:txBody>
      </p:sp>
      <p:pic>
        <p:nvPicPr>
          <p:cNvPr id="254" name="Picture 5" descr="Joaquim"/>
          <p:cNvPicPr/>
          <p:nvPr/>
        </p:nvPicPr>
        <p:blipFill>
          <a:blip r:embed="rId1"/>
          <a:stretch/>
        </p:blipFill>
        <p:spPr>
          <a:xfrm>
            <a:off x="4038480" y="4419720"/>
            <a:ext cx="2971800" cy="22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 #3</a:t>
            </a:r>
            <a:br>
              <a:rPr sz="4000"/>
            </a:br>
            <a:r>
              <a:rPr b="0" i="1" lang="en-US" sz="2800" spc="-1" strike="noStrike">
                <a:solidFill>
                  <a:srgbClr val="000000"/>
                </a:solidFill>
                <a:latin typeface="Calibri"/>
              </a:rPr>
              <a:t>Brazil needs in for money</a:t>
            </a:r>
            <a:endParaRPr b="0" lang="en-US" sz="2800" spc="-1" strike="noStrike">
              <a:solidFill>
                <a:srgbClr val="04617b"/>
              </a:solidFill>
              <a:latin typeface="Calibri"/>
            </a:endParaRPr>
          </a:p>
        </p:txBody>
      </p:sp>
      <p:sp>
        <p:nvSpPr>
          <p:cNvPr id="256"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ll the other countries are not burdened by this huge natural resource that is seen. More than half of Brazil is covered with the rainforest. There is a huge need to use this resource economically and socially. </a:t>
            </a:r>
            <a:endParaRPr b="0" lang="en-US" sz="2400" spc="-1" strike="noStrike">
              <a:solidFill>
                <a:srgbClr val="000000"/>
              </a:solidFill>
              <a:latin typeface="Constantia"/>
            </a:endParaRPr>
          </a:p>
        </p:txBody>
      </p:sp>
      <p:pic>
        <p:nvPicPr>
          <p:cNvPr id="257" name="Picture 11" descr="map2"/>
          <p:cNvPicPr/>
          <p:nvPr/>
        </p:nvPicPr>
        <p:blipFill>
          <a:blip r:embed="rId1"/>
          <a:stretch/>
        </p:blipFill>
        <p:spPr>
          <a:xfrm>
            <a:off x="4884840" y="2057400"/>
            <a:ext cx="33796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libri"/>
              </a:rPr>
              <a:t>Forward Brazil!</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Avanca Brasil, or Advance (Forward)Brazil, is a foundation created by the Brazilian Government in 2000. It is a package of 338 projects throughout Brazil that plan that involves some $40 billion to develop roads, railways, waterways, and hydroelectric dams in the Amazon Rainforest. There is much controversy over this issue and whether it is right. Also the Brazilian government denies that any damage will be done to the Amazon Rainfores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blueplanetbiomes.org/amazon.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findarticles.com/p/articles/mi_m2465/is_3_31/ai_7304074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itemaker.umich.edu/003_003/avanca_brasil_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4:08:33Z</dcterms:created>
  <dc:creator>cfisd</dc:creator>
  <dc:description/>
  <dc:language>en-US</dc:language>
  <cp:lastModifiedBy>Robello Samuel</cp:lastModifiedBy>
  <dcterms:modified xsi:type="dcterms:W3CDTF">2010-01-13T00:05:53Z</dcterms:modified>
  <cp:revision>11</cp:revision>
  <dc:subject/>
  <dc:title>Government Officials </dc:title>
</cp:coreProperties>
</file>