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C274-5093-4A7B-A54E-C9CAEC32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DA2-6FAC-42E5-957A-C5C4E5D9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1A74-2771-46EE-8AAC-B5D2BF8F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0F8E-7E7F-46DD-8320-CA586CC1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8316-A570-441B-8148-1C9EFCDE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F897-D145-4217-A6B5-CECED13F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07A4-9D66-4F06-8CB8-9D2D3AE5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1825-6F2C-4D0C-9CC6-4F0EACBD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4A8E-55D7-4E9C-8194-53BCA22F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A3CA-CF44-4CEA-B6E3-8816D84C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9421-B008-4FB0-BA41-32733F57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25C-F960-4781-B2D3-691592BC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7C89-009F-45FA-AA68-33822595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9C67-2FFE-4A5B-804E-67263347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1B18-ED8F-4DEE-9069-8039F521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9A96-5221-4BEA-B7D2-DF9A1067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C63B-2616-4950-A6CA-BE073A17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AB0ED-A302-452D-8AEC-DF07B1D6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D934B-5877-4A65-B83B-08BD8EFE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A9F70-9B3A-41E0-B000-1DDC8BCA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B752D-C39F-417E-98E1-1EA95FBE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A4A13-3E12-4A5C-8F66-AA91531A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D90-CCA0-47EB-A08F-7716E107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19E80-AE52-49C1-8329-83F6A21D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93858-A638-403C-81C6-5B3FD867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A41AD-5731-4C6B-AAC2-5382468E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9A0F2-F09F-4EA3-990C-3755F528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E4F5A-B324-4EE6-986E-66C6C4FE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FFEEC-7AFB-48B3-90F1-B56FD94D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E12B1-4BA5-4C1C-A2DC-62A2F112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9F1DA-05D1-453B-AA46-94430735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3D3BC-B8A0-4CB3-8FA1-B74B831F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6A233-F32A-4B3A-9B57-36F4CE4A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E99-C2A4-4ADE-9924-CD14B58F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20FC9-E2EC-4043-8EA6-FBECDC16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94367-3EED-48D3-AA61-BAF143B7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25F8E-9DFB-40B5-9E4B-B3051A5B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34577-4DCB-4136-ABF5-877C81B3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D34B1-575C-4B49-A00B-C8EE591B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4DF01-3DB0-467B-876B-EF283FB4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9CF82-4683-403A-A3A3-4AFA94A1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59E88-9D80-4F80-895B-2BCA5499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0EC6A-5A6E-4239-8BC2-C08A22F5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ACA-DBE3-4C71-9665-823E94F7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10B-16CF-4BD6-94EF-81040804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1958-42DA-4C87-9D91-EF3506A7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82C8-800F-413B-8EDC-7C1C11E5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4B7-C965-484B-B4EF-F0F3D295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B2EF-618A-4EE3-87AE-D172A69520A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C44D-16B6-4B38-B35A-9B75C340D8C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7E6D-F74F-4C71-808A-BB8AB887337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9EDA-1845-42E5-B354-996A1375A5B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396720" y="1365120"/>
            <a:ext cx="84423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tory of how mercantilism affected peop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Sharon Samuel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BEGINNING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e bright and sunny morning China found out that she was running out of coal. So the government of China decided to invade South Africa for coa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3048120" y="3809880"/>
            <a:ext cx="33526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W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ina invaded South Africa and killed more than 500 civilians in the process and forced thousands to start creating new coal mi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2895480" y="3352680"/>
            <a:ext cx="35146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STEAL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his China shipped all the produced coal to China. There they used it for electricity and to create other products. The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36194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SELLING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ina took back the leftover coal and the products created from it to South Africa. They made the citizens buy it at a very costly price. So went the story of China and mercantilism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2819520" y="3733920"/>
            <a:ext cx="3657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3:50:41Z</dcterms:created>
  <dc:creator>Robello Samuel</dc:creator>
  <dc:description/>
  <dc:language>en-US</dc:language>
  <cp:lastModifiedBy>rsamuel</cp:lastModifiedBy>
  <dcterms:modified xsi:type="dcterms:W3CDTF">2009-11-21T15:32:25Z</dcterms:modified>
  <cp:revision>3</cp:revision>
  <dc:subject/>
  <dc:title>The Fate of Mercantalism</dc:title>
</cp:coreProperties>
</file>