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BE2-CB0A-40D4-9797-B47CCA5A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720-3FD6-4388-8670-DABB7590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AC7-D6B3-4380-8B3E-096D53AE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B31-B2F7-4140-B588-D3B56CE9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2252-CFDB-4C75-A548-AF01E2EA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36B3-E496-442C-A50E-719C390E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4720-E952-46C9-AAE7-5D204532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DF03-0AAE-49B1-8D3D-F23C2908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7AB9-B120-4F1E-B86A-915CC3F9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FC75-C34E-457C-98C0-E2DBFA27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B693-FA2A-4F67-A18A-64A55EE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9FD-CB3F-491B-BA0E-AE92F4A4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0BB1-D92A-4440-9B54-7C87F13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DAE-053E-4AB6-85E4-70334C92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905B-6E74-49A3-8B6D-04FEEBF6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353F-6F9B-4108-86E5-A704EE4B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8117-71A9-4841-8FB2-C6F363CF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F983-C167-4D57-8414-46FA3903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D79F-DDE0-4924-8D8C-C5B0DAE6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DE78-94DB-44BA-AD7A-10F93A94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E635-C1CC-4CA3-AFBB-BA9A75D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313C-C1A1-4CBA-BD9C-7848EDF8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0F9-67BE-4CB8-BB57-A32711A9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47BB-7389-440D-BC34-268D9998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5720-28BA-4DE1-BDF1-F36CB0A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4E18-D656-4E00-9FCE-FF3F8DAF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E1CD-2E38-4C38-BA16-20A0B4C4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9ED0-4AF6-458E-8432-086EBB3B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DE9F-1F78-4443-B7DF-D0138E9E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F9F8-1432-4DBE-8C81-5092BAC9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2948-D8A5-462E-AAAD-F560484C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1C95-B5BB-4382-B89A-A0DA84CE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4E9C-8661-4C1D-9C98-9F769B72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83F-14FB-4809-845F-6D9D394E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D6A2C-65FB-4869-A04C-384951EE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EB46-9E63-4145-BAAF-85C929B9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45171-4923-4BF9-B8FF-EE83ED0E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20B76-FE39-415A-B178-2DE16F20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54FF4-738C-40DD-8328-988BE27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AAE3A-8021-44E0-BF64-21FE5033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004F-CA54-4E19-A4BB-35B4E65B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932B-C09A-4FAE-83D1-C81CF190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E7232-83C4-4CD3-A691-E21C04E7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476-2D93-4C57-8C00-262E9924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0AC-D30E-4E2F-8CE0-58739782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694-03FE-4957-83CC-CF038F5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F45-F370-4BF2-9124-8752FE0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123-545B-44AE-8583-5280B615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27E5-72A6-4B2B-9DAC-AD986ED024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1A39-C504-4DEE-8857-0994666CF60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0E48-81C8-4DA6-B74A-B4E4EC232DB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87BE-2E19-4F80-8157-26407A0E60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396720" y="1365120"/>
            <a:ext cx="84423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ory of how mercantilism affected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Sharon Samue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EGINN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bright and sunny morning China found out that she was running out of coal. So the government of China decided to invade South Africa for co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33526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invaded South Africa and killed more than 500 civilians in the process and forced thousands to start creating new coal m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35146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TEAL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is China shipped all the produced coal to China. There they used it for electricity and to create other products. Th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194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ELL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took back the leftover coal and the products created from it to South Africa. They made the citizens buy it at a very costly price. So went the story of China and mercantilis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3:50:41Z</dcterms:created>
  <dc:creator>Robello Samuel</dc:creator>
  <dc:description/>
  <dc:language>en-US</dc:language>
  <cp:lastModifiedBy>rsamuel</cp:lastModifiedBy>
  <dcterms:modified xsi:type="dcterms:W3CDTF">2009-11-21T15:32:25Z</dcterms:modified>
  <cp:revision>3</cp:revision>
  <dc:subject/>
  <dc:title>The Fate of Mercantalism</dc:title>
</cp:coreProperties>
</file>