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C44-5358-4880-B2A7-60B33178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6B9-0B23-4384-80A1-00DDA79B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DB8-4F7B-4ACF-8606-FFCC98B4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7ED-C29E-4FDA-B1B7-5E519817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27D5-7F6C-46DB-8832-C40DF934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EC3C-F94D-44E6-B2D9-F217DBD5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3C48-5C5C-4BFF-9E0E-59233DB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0F56-2439-49CC-9B6A-0AF8C09A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2C0B-BC61-4056-9EF2-0E59664F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0EA6-E627-473E-83A8-3AC0115E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5E86-B99F-4629-AAFE-774AA24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1D4-5394-4544-924C-7DCFB7C8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289D-D78D-4705-9E24-E4AAC72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216B-FD71-401F-B0F5-9629895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C0E3-FA67-489F-8072-508D00BB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E7ED-618F-49A7-B0A6-615BEEAF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FA82-7301-44A7-8067-5E16733C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FE33-1996-42E7-87FF-3F44BC9D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DB10-B9A7-4D68-9068-9FEB4F35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1CF5B-99E8-410C-B279-C727C1B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73BC-9540-4257-AFB2-FC26314A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BAD0-D39D-4B8D-A7E3-7D4503F2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AE2-0132-429C-8642-FA05FBD6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0AB0-99CF-4FDF-9FFB-5F50FE86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88BBB-9F93-410B-9FC4-60EA93E6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EF66-A266-4A51-8A53-C328C61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C409-52AB-483E-8B29-EACF585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FDCD-2A6E-452B-8683-FFE123E2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CBC8-E715-4711-AE00-C83A4DA2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6643-A17C-4299-B707-291B0F4D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03A6-3ED7-4819-88FC-47A0F48A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A9C6-23B1-4B6F-8AA1-1C5993F3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2C58-1C12-4C77-9FC8-02FCBF30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7A4-CCAE-4097-AFFB-6DCFA82D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5139-E483-44A4-AC16-C9037A0C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C01D-D34F-4414-9CD4-82AB4F0B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1FF0F-8B09-4DF0-9EB7-57554658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80AB-0E53-4523-8164-26A8C5CC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6E6B6-D260-4C76-B7B1-6A03C44E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3CDC-3F70-42DB-ADC7-BCD9572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D959-CB88-4C17-AB84-FC31CA23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42F6-CEAC-4EF9-AFDB-BA296720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D7E6-59E5-4726-8F36-6A0FE2B5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82F-DE3B-40D7-A92B-00D07AE8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D3E-AD4F-407E-9DFD-EAEA06E8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004-A79A-4238-AE8D-A0809DEF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383-7C54-4841-8022-19ACB3F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968-A5A6-43DD-9D1F-C2B992B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8000-75E6-4882-9B51-CB474EF624D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2EA9-F2A6-4433-AE6C-0C90AE7F7A8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6C8C-7343-42BF-8FC7-1227C571931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42ED-AC8D-406A-9CDB-273C764AC6A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396720" y="1365120"/>
            <a:ext cx="84423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ory of how mercantilism affected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Sharon Samue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EGINN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bright and sunny morning China found out that she was running out of coal. So the government of China decided to invade South Africa for co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33526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invaded South Africa and killed more than 500 civilians in the process and forced thousands to start creating new coal m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35146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TEAL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is China shipped all the produced coal to China. There they used it for electricity and to create other products. Th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194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SELL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na took back the leftover coal and the products created from it to South Africa. They made the citizens buy it at a very costly price. So went the story of China and mercantilis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3:50:41Z</dcterms:created>
  <dc:creator>Robello Samuel</dc:creator>
  <dc:description/>
  <dc:language>en-US</dc:language>
  <cp:lastModifiedBy>rsamuel</cp:lastModifiedBy>
  <dcterms:modified xsi:type="dcterms:W3CDTF">2009-11-21T15:32:25Z</dcterms:modified>
  <cp:revision>3</cp:revision>
  <dc:subject/>
  <dc:title>The Fate of Mercantalism</dc:title>
</cp:coreProperties>
</file>