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FB3-D048-4BDD-92CF-7DD093C3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7FC-D83C-48D9-9ECF-29288E61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9EEA-FECF-4BA3-AF8B-E30A64A6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170B-2EC5-4987-BED0-CBA2330D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201B-59E5-44AF-9D7F-C6734B7C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6E6B-E89A-41FE-A706-C33C1A54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FE42-796C-46EF-9BAA-AC9AB4BD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E515-9C81-4C30-B633-2DB963C6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CDC8-D4C5-4F5F-BC97-42A8EA75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A504-63A3-470D-A9EC-B178D46D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7815-276D-47C0-96DA-6A0F5F98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2287-1FB4-41F4-82D4-C9DBF474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0288-0011-4E20-B1CA-A21D48E6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8F13-C310-4778-9D3F-EA9D57DE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7998-6EEA-436E-8107-9B84AE8F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65D8-47E3-4C12-BE13-C2DFA7F2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27DF-96AC-4C19-B597-B08967C7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244D4-D793-464A-AC06-003931C5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14924-17AF-43CD-BC31-5200A6FE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2B5CA-0EBE-4216-82ED-95F15D02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6C77E-285C-4C58-B829-8DF2EE33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06733-AE38-4FAA-AF51-40868D62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3BE-4C6B-4D5B-A80C-500E3A4B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91FF1-6498-4B15-8DA2-8A27ECB2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7AA24-745A-4597-B7C6-4364737F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41CEF-A60C-465C-98B7-172DC791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AECBC-84BF-4329-AAA7-58249C95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797E2-D60B-4D9B-80A6-D99C52EE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15D53-C8FC-49B5-AC50-586B0FB8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61ED4-A5EB-456F-B9C8-2768D50F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4F5A4-30BB-4C47-8AA6-F0E33F82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4DD42-592F-499C-9E72-EEF01041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DBE29-A9F5-4A53-B3EE-FE3D00B5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4E4-1DFA-4076-8A18-2B52D8E2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73857-3F69-4B96-8324-C674F7F1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62C2E-8D36-49F3-9170-5F37DC48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875D1-5EB9-4787-B7F5-0F1BA582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73110-5F08-4795-9F81-0E846FCE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47D87-6AD2-4D06-8200-852E8054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601E3-D091-40A7-8C05-618072F9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D7C1B-5C22-485D-B92B-B186E44A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9F8DD-9F78-40EB-92D6-DB3867A3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84D06-014F-4D03-A790-1767ACD8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6605-7BC0-4716-B5FA-2013866F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6004-6290-4F1E-AF07-8B448C78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79A4-C9EE-41A8-A958-F8B7EE5F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6FA-4757-4E75-BCEB-4EB58456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A66-6CA1-4E33-BE8C-3A6175CE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90A5-4D3F-49F9-BC11-9CCA2CDD75F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BCDC-EF0C-47AF-9359-9D90015DA72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63BE-6D77-4721-A82B-EE82A29F56B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0BF3-2569-4784-AC71-29CE0E2637C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396720" y="1365120"/>
            <a:ext cx="84423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tory of how mercantilism affected peop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Sharon Samuel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BEGINNING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e bright and sunny morning China found out that she was running out of coal. So the government of China decided to invade South Africa for coa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3048120" y="3809880"/>
            <a:ext cx="33526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W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ina invaded South Africa and killed more than 500 civilians in the process and forced thousands to start creating new coal mi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2895480" y="3352680"/>
            <a:ext cx="35146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STEAL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his China shipped all the produced coal to China. There they used it for electricity and to create other products. The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2590920" y="3200400"/>
            <a:ext cx="36194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SELLING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ina took back the leftover coal and the products created from it to South Africa. They made the citizens buy it at a very costly price. So went the story of China and mercantilism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2819520" y="3733920"/>
            <a:ext cx="3657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3:50:41Z</dcterms:created>
  <dc:creator>Robello Samuel</dc:creator>
  <dc:description/>
  <dc:language>en-US</dc:language>
  <cp:lastModifiedBy>rsamuel</cp:lastModifiedBy>
  <dcterms:modified xsi:type="dcterms:W3CDTF">2009-11-21T15:32:25Z</dcterms:modified>
  <cp:revision>3</cp:revision>
  <dc:subject/>
  <dc:title>The Fate of Mercantalism</dc:title>
</cp:coreProperties>
</file>