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AC16-7951-4B5C-BC1D-474176637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44EC-BD09-4A86-B495-E52FE8DBD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8135-E5FF-4936-8A56-15E99580A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49E7-E59B-4D4F-BC44-DA995145B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FD22-7734-42BE-AA22-568318B3B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F28C-8A96-4BD9-89E1-4B41B027C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552D-225B-4D81-AB38-A56E71893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B3BF-E6F3-459A-AFCF-03B70E60C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36B6-8082-4663-B920-8FEF1B3C3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6330-788E-4D7A-878E-BE5CFD33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BDF0-2E2C-41D0-986A-62B9C773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C5D9-D0B2-47FC-9921-630672D0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F86CB-8596-43F5-90B3-7B93A6DAE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lipart.com/en/close-up?o=4012143&amp;memlevel=A&amp;a=a&amp;q=plague&amp;k_mode=all&amp;s=1&amp;e=18&amp;show=&amp;c=&amp;cid=&amp;findincat=&amp;g=&amp;cc=&amp;page=&amp;k_exc=&amp;pubid=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hapitre 5, Leçon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haron Samue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ner à la gard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oncer en confidence, en secr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ntru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ster, reje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MB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b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eem, app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ître, avoir l'air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ner l'impression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C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li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VOL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vol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ering whe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E VOL A MAIN ARMÉ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vol a main arm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med robbe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A GRÈ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gre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ke (work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BIJ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bij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it ouvrage de luxe d’un travail élégant et d’une matière précieuse , et qui sert de parure et d’ornement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je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34120" y="380988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CHA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cha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it chat , mâle ou femelle, qui n’a pas encore atteint l’âge adul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ki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257800" y="3505320"/>
            <a:ext cx="26668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COLL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coll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ure se portant autour du cou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griculture) courroie en cuir se plaçant autour du cou des animaux de tra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eck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838840" y="3938760"/>
            <a:ext cx="16574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E FLÉA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flé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ment composé de deux bâtons reliés, servant à battre le blé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me constituée de masses reliées à un manc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gue, e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81480" y="4191120"/>
            <a:ext cx="29718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E PAILLAS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Paillass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pette installée devant une porte pour s'essuyer les pie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o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LU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lu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ht, batt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311800" y="3938760"/>
            <a:ext cx="27097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MONT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mon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FAI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fa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18:52:40Z</dcterms:created>
  <dc:creator>CFISD</dc:creator>
  <dc:description/>
  <dc:language>en-US</dc:language>
  <cp:lastModifiedBy>CFISD</cp:lastModifiedBy>
  <dcterms:modified xsi:type="dcterms:W3CDTF">2010-03-05T19:24:53Z</dcterms:modified>
  <cp:revision>6</cp:revision>
  <dc:subject/>
  <dc:title>Vocabulary </dc:title>
</cp:coreProperties>
</file>