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8D9-90CE-4AEF-976E-E936E0EB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237-45C6-42E2-8CB6-A2BFF175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D1A-4170-46D7-B4C6-47242636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93B-72A9-4DD5-B335-AE56C177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EBC-BA00-4B9B-89B6-CF6AD340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EB8-A77B-4164-A6CB-7C12796E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84E-D394-44B1-8DD3-A09499E7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853-D26A-46F2-9E32-57A16618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DAA-6018-487D-BE5D-E4550E7D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DED-EE3A-4EA7-8262-128F84FF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80B-4588-41A0-8395-CB9C93A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C8D-47B3-4BA7-AD2B-575DDAB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70C7-989A-4550-9DD7-CD47C70BD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4012143&amp;memlevel=A&amp;a=a&amp;q=plague&amp;k_mode=all&amp;s=1&amp;e=18&amp;show=&amp;c=&amp;cid=&amp;findincat=&amp;g=&amp;cc=&amp;page=&amp;k_exc=&amp;pubid=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pitre 5, Leç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haron Samu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à la gar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ncer en confidence, en sec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r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ster, rej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B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m,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ître, avoir l'ai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l'impressio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VO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o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whe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VOL A MAIN ARM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ol a main arm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ed rob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GRÈ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gr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 (work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IJ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bij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 ouvrage de luxe d’un travail élégant et d’une matière précieuse , et qui sert de parure et d’ornement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e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ha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 chat , mâle ou femelle, qui n’a pas encore atteint l’âge adu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2666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L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l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ure se portant autour du co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griculture) courroie en cuir se plaçant autour du cou des animaux de tra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ck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38840" y="3938760"/>
            <a:ext cx="1657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FLÉ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flé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composé de deux bâtons reliés, servant à battre le bl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e constituée de masses reliées à un man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gue,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4191120"/>
            <a:ext cx="2971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PAILLA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illas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pette installée devant une porte pour s'essuyer les pi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LU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u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ht, batt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11800" y="3938760"/>
            <a:ext cx="2709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ON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o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52:40Z</dcterms:created>
  <dc:creator>CFISD</dc:creator>
  <dc:description/>
  <dc:language>en-US</dc:language>
  <cp:lastModifiedBy>CFISD</cp:lastModifiedBy>
  <dcterms:modified xsi:type="dcterms:W3CDTF">2010-03-05T19:24:53Z</dcterms:modified>
  <cp:revision>6</cp:revision>
  <dc:subject/>
  <dc:title>Vocabulary </dc:title>
</cp:coreProperties>
</file>