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8B7-4616-4608-91A9-83AC37CA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0A8-58E8-4680-926C-694568D4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4EE-334D-4738-A562-6A012345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166-C95B-4262-9EE3-7C9D3DD1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8FE-4FEB-49FC-AF3F-24225DF2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FF8-6979-4B42-B33E-874E97D4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9D9-F078-4627-9E83-4EABCE19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A93-672D-454A-AEAD-8864CDFB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8C5-A5F1-4E27-9084-407F7AE6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EA2-ABAD-48F7-B158-4B425AC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CC0-DF68-4202-A845-E9C6A92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02C-70BC-4969-88D9-693FBEFF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431-064D-4446-9FBD-230830B1D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4012143&amp;memlevel=A&amp;a=a&amp;q=plague&amp;k_mode=all&amp;s=1&amp;e=18&amp;show=&amp;c=&amp;cid=&amp;findincat=&amp;g=&amp;cc=&amp;page=&amp;k_exc=&amp;pubid=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pitre 5, Leç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aron Samu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à la gar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ncer en confidence, en sec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r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ster, rej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B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m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ître, avoir l'a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l'impressio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VO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o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wh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VOL A MAIN ARM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ol a main arm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d rob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GRÈ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r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(work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J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bi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 ouvrage de luxe d’un travail élégant et d’une matière précieuse , et qui sert de parure et d’ornemen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h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 chat , mâle ou femelle, qui n’a pas encore atteint l’âge adu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666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L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l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ure se portant autour du co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riculture) courroie en cuir se plaçant autour du cou des animaux de tr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ck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38840" y="3938760"/>
            <a:ext cx="165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FLÉ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flé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composé de deux bâtons reliés, servant à battre le bl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 constituée de masses reliées à un man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gue,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191120"/>
            <a:ext cx="2971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PAILLA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illas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pette installée devant une porte pour s'essuyer les pi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LU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u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ht, bat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11800" y="3938760"/>
            <a:ext cx="2709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ON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o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52:40Z</dcterms:created>
  <dc:creator>CFISD</dc:creator>
  <dc:description/>
  <dc:language>en-US</dc:language>
  <cp:lastModifiedBy>CFISD</cp:lastModifiedBy>
  <dcterms:modified xsi:type="dcterms:W3CDTF">2010-03-05T19:24:53Z</dcterms:modified>
  <cp:revision>6</cp:revision>
  <dc:subject/>
  <dc:title>Vocabulary </dc:title>
</cp:coreProperties>
</file>