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50A-E65B-4EAA-A375-69516710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893-0CB1-4EDE-9DE7-843C4B12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CBD-2307-4A11-B3CA-ACF11433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268-CB36-48B5-8DFE-DE6A6C98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B36-78B0-4FD1-80E8-13F79A96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AC1-D375-45F2-AD76-95AE0A5D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E3B-AB88-4EEE-BC45-FB295501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86D-EC87-4797-B6C8-C8810353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D8A-E8A8-4310-BA57-1A3E73D6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FDD-02F8-4C07-AC9E-5C66AE03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EC0-D304-4B0B-A211-58651035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8BF-CAB6-438E-9B66-260881BE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931A-7293-4557-A46B-8D96C93BC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4012143&amp;memlevel=A&amp;a=a&amp;q=plague&amp;k_mode=all&amp;s=1&amp;e=18&amp;show=&amp;c=&amp;cid=&amp;findincat=&amp;g=&amp;cc=&amp;page=&amp;k_exc=&amp;pubid=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pitre 5, Leç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haron Samu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à la gar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ncer en confidence, en sec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r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ster, rej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B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m,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ître, avoir l'ai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l'impressio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VO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o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whe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VOL A MAIN ARM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ol a main arm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ed rob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GRÈ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gr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 (work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IJ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bij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 ouvrage de luxe d’un travail élégant et d’une matière précieuse , et qui sert de parure et d’ornement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e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ha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 chat , mâle ou femelle, qui n’a pas encore atteint l’âge adu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2666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L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l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ure se portant autour du co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griculture) courroie en cuir se plaçant autour du cou des animaux de tra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ck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38840" y="3938760"/>
            <a:ext cx="1657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FLÉ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flé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composé de deux bâtons reliés, servant à battre le bl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e constituée de masses reliées à un man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gue,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4191120"/>
            <a:ext cx="2971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PAILLA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illas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pette installée devant une porte pour s'essuyer les pi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LU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u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ht, batt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11800" y="3938760"/>
            <a:ext cx="2709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ON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o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52:40Z</dcterms:created>
  <dc:creator>CFISD</dc:creator>
  <dc:description/>
  <dc:language>en-US</dc:language>
  <cp:lastModifiedBy>CFISD</cp:lastModifiedBy>
  <dcterms:modified xsi:type="dcterms:W3CDTF">2010-03-05T19:24:53Z</dcterms:modified>
  <cp:revision>6</cp:revision>
  <dc:subject/>
  <dc:title>Vocabulary </dc:title>
</cp:coreProperties>
</file>